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media/image2.pct" ContentType="image/x-pict"/>
  <Override PartName="/ppt/media/image5.png" ContentType="image/png"/>
  <Override PartName="/ppt/media/image3.pct" ContentType="image/x-pict"/>
  <Override PartName="/ppt/media/image4.jpeg" ContentType="image/jpeg"/>
  <Override PartName="/ppt/media/image6.jpeg" ContentType="image/jpeg"/>
  <Override PartName="/ppt/media/image8.png" ContentType="image/png"/>
  <Override PartName="/ppt/media/image7.pct" ContentType="image/x-pict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9257C-6843-4062-AAAD-F1B330073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F3273-0525-46BE-BB47-63AF56A5A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98754-00D0-4390-B53E-B3D675FEF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CDDCF-C5C2-47EF-BE96-7F311829B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A5ABF-B781-4051-9793-52B431825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9D48F-99F3-4683-90BE-0B59D9046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D709C-ABAC-4DF9-8C08-26D9F66BD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9BC14-CF41-4641-99D1-A4B3A7D1F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E6415-00E7-4644-8AEA-E4BD1BE7C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53E74-888D-4687-BF3D-0E29039D4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828CE-28BE-4D4F-B6ED-BCE5D0999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DC34B-14D1-4EFB-BEA2-EC749739E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ABFA2-EAEA-477B-A2E4-9AB98F3252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tologies in Biomedicine</a:t>
            </a:r>
            <a:br>
              <a:rPr sz="4400"/>
            </a:b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What is the “right” amount of semantic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k A. Mus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nford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5587920"/>
            <a:ext cx="9144000" cy="12700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6019920" y="152280"/>
            <a:ext cx="297180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1284120"/>
            <a:ext cx="9144000" cy="557388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Portion of the OBO Libr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dimensions for characterizing ontolog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arge vs. Sma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e.g., FMA vs. SOFG Anatomy Entry Li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oad vs. Dee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e.g., UMLS Semantic Network vs. CY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ite” vs. Heav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e.g., Gene Ontology vs. FM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fundamental paradox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 and other ontologies became popular because they assumed a simple semantics that required little of develop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lack of rich semantics has enabled errors to creep into ontologies such as GO and the meaning of terms and relations to dri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ontology developers are now turning to rich representation formalisms (e.g., OWL) to overcome these problems—but are they shooting themselves in the foot by doing d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066680" y="1138320"/>
            <a:ext cx="7315200" cy="571968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GO is elegant in its simplicity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457200"/>
            <a:ext cx="9144000" cy="654372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-1731960" y="0"/>
            <a:ext cx="1060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there are clear advantages to having richer seman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r distinguished panelis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ristopher Chu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Professor and Chair, Department of Medical Informatics, the Mayo Clin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zanna Lewi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Senior Staff Scientist, Lawrence Berkeley National 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arry Smi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Professor of Philosophy, University at Buffa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11280"/>
            <a:ext cx="777240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What is the “right” amount of semantic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743200" y="1981080"/>
            <a:ext cx="3697200" cy="4496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ational Center for Biomedical Ont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5587920"/>
            <a:ext cx="9144000" cy="127008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of three National Centers for Biomedical Computing launched by NIH in 20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aboration of Stanford, Berkeley, Mayo, Buffalo, Victoria, UCSF, Oregon, and Cambri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mary goal is to make ontologies accessible and us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earch will develop technologies for ontology indexing, alignment, and pe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11280"/>
            <a:ext cx="777240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 algn="ctr">
              <a:spcAft>
                <a:spcPts val="11"/>
              </a:spcAft>
              <a:buNone/>
              <a:tabLst>
                <a:tab algn="l" pos="0"/>
                <a:tab algn="l" pos="317520"/>
                <a:tab algn="l" pos="1231920"/>
                <a:tab algn="l" pos="2146320"/>
                <a:tab algn="l" pos="3060720"/>
                <a:tab algn="l" pos="3975120"/>
                <a:tab algn="l" pos="4889520"/>
                <a:tab algn="l" pos="5803920"/>
                <a:tab algn="l" pos="6718320"/>
                <a:tab algn="l" pos="7632720"/>
                <a:tab algn="l" pos="854712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Develop an Ontolog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5960" indent="-345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shar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mon understa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the structure of descriptive inform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ong peo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ong software ag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tween people and soft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enabl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u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domain knowled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avoid “re-inventing the wheel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601"/>
              </a:spcBef>
              <a:spcAft>
                <a:spcPts val="11"/>
              </a:spcAft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introduce standards to allow interoper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01520" y="1676520"/>
            <a:ext cx="598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Book Antiqua"/>
              </a:rPr>
              <a:t>Supreme genus: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SUB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34880" y="2529000"/>
            <a:ext cx="740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Book Antiqua"/>
              </a:rPr>
              <a:t>Subordinate genera: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BODY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SPIR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-490680" y="2071800"/>
            <a:ext cx="827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Book Antiqua"/>
              </a:rPr>
              <a:t>Differentiae: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material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         immater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-469080" y="2909880"/>
            <a:ext cx="813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Book Antiqua"/>
              </a:rPr>
              <a:t>Differentiae: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animate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         inanim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-531360" y="3672000"/>
            <a:ext cx="827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Book Antiqua"/>
              </a:rPr>
              <a:t>Differentiae: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sensitive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        insensi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-15840" y="3290760"/>
            <a:ext cx="854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Book Antiqua"/>
              </a:rPr>
              <a:t>Subordinate genera: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LIVING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              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MINE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44320" y="4129200"/>
            <a:ext cx="726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Book Antiqua"/>
              </a:rPr>
              <a:t>Proximate genera: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ANIMAL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PL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25600" y="4967280"/>
            <a:ext cx="726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Book Antiqua"/>
              </a:rPr>
              <a:t>Species: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HUMAN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BEA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-464760" y="4510080"/>
            <a:ext cx="799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Book Antiqua"/>
              </a:rPr>
              <a:t>Differentiae: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rational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       irra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-687960" y="6186600"/>
            <a:ext cx="882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Book Antiqua"/>
              </a:rPr>
              <a:t>Individuals: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Socrates       Plato      Aristotle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      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3962160" y="1981080"/>
            <a:ext cx="53316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 flipV="1">
            <a:off x="5263200" y="1960200"/>
            <a:ext cx="475200" cy="254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6658560" y="2349000"/>
            <a:ext cx="475200" cy="254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 flipV="1">
            <a:off x="5134320" y="2806200"/>
            <a:ext cx="474840" cy="254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 flipV="1">
            <a:off x="6658560" y="3111120"/>
            <a:ext cx="475200" cy="254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 flipV="1">
            <a:off x="5058360" y="3568320"/>
            <a:ext cx="475200" cy="254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 flipV="1">
            <a:off x="6658560" y="3949200"/>
            <a:ext cx="475200" cy="254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 flipV="1">
            <a:off x="5058360" y="4406400"/>
            <a:ext cx="475200" cy="254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 flipV="1">
            <a:off x="6506640" y="4787280"/>
            <a:ext cx="474480" cy="254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 flipV="1">
            <a:off x="5132520" y="5243040"/>
            <a:ext cx="1632600" cy="1030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 flipV="1">
            <a:off x="4828680" y="5243040"/>
            <a:ext cx="969120" cy="99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H="1" flipV="1">
            <a:off x="4545000" y="5247360"/>
            <a:ext cx="155520" cy="1015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3664800" y="5243760"/>
            <a:ext cx="706320" cy="1088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H="1" flipV="1">
            <a:off x="3991320" y="2349000"/>
            <a:ext cx="474840" cy="254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3915360" y="3187080"/>
            <a:ext cx="474840" cy="255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 flipV="1">
            <a:off x="3762720" y="3949200"/>
            <a:ext cx="474840" cy="254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3763440" y="4787280"/>
            <a:ext cx="474480" cy="254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886200" y="2819520"/>
            <a:ext cx="5335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886200" y="3581280"/>
            <a:ext cx="5335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809880" y="4419720"/>
            <a:ext cx="5335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rphyry’s depiction of Aristotle’s Catego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17640"/>
            <a:ext cx="9690120" cy="681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mall Portion of ICD9-CM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0" y="1041480"/>
            <a:ext cx="6934320" cy="74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2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specified disorders of the b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24.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inal stenosis, other than cervic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24.0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inal stenosis, unspecified reg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24.0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inal stenosis, thoracic reg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24.0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inal stenosis, lumbar reg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24.09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inal stenosis, o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24.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in in thoracic sp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24.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umba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24.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iat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24.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oracic or lumbosacral neurit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24.5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ckache, unspecifi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24.6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orders of sacr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24.7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orders of coccy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24.7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specified disorder of coccy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24.7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ypermobility of coccy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24.7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ccygodyn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24.8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ther symptoms referable to b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24.9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ther unspecified back disor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Foundational Model of Anatom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-304920" y="1095480"/>
            <a:ext cx="9753840" cy="576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317520"/>
            <a:ext cx="9144000" cy="654048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 flipH="1">
            <a:off x="-720" y="-76320"/>
            <a:ext cx="396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NCI Thesaurus in OW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1143000" y="757080"/>
            <a:ext cx="7315200" cy="572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2T05:04:01Z</dcterms:created>
  <dc:creator>Mark Musen</dc:creator>
  <dc:description/>
  <dc:language>en-US</dc:language>
  <cp:lastModifiedBy>Mark Musen</cp:lastModifiedBy>
  <dcterms:modified xsi:type="dcterms:W3CDTF">2005-10-26T13:34:09Z</dcterms:modified>
  <cp:revision>50</cp:revision>
  <dc:subject/>
  <dc:title>Ontologies in Biomedicine AMIA Tutorial 25 October 23, 2005</dc:title>
</cp:coreProperties>
</file>